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A17-6188-46EF-AA46-F27F9D71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B45-A90A-4A97-9EBF-B4BABEB9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47C-08F0-485F-8EAE-132F9942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977-F0E1-43A0-B4FD-64F37542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F60-A4FF-467B-9B43-4A6D0AB5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D72C-35CF-4036-927E-875109E3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EB2-594C-42AB-BD51-7871B397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1500-AF5D-471D-9D69-8E54ACF7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7734-D70C-41D2-B66E-48DE8BF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89D2-FA19-4B1C-B982-5557853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3CE9-C1C9-4FEC-A283-1C5A2527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C50-270A-45B4-8729-741F2DF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CB63-756A-4B33-BAF9-7D4B57C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79DF-E294-47F7-B302-10D0F47D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9502-0257-4A31-BBE7-DD08D503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A68F-1590-4C04-B7CA-5A3D80A6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388D-95D2-4A0E-92EF-BC507C57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90E-05B3-4D83-908C-DE9DF41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253-FBD7-4F76-BC19-A6BD7BA2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714-47E1-440B-940C-F43FCD7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665-C42B-4D97-8B05-E515AA4E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F34-693E-4B02-BDC8-F9F3A2D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A24-774B-465D-9553-CA5B695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138-5E93-41DA-9C08-538F808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F72-5FE7-4618-A27E-0AFE2F40B3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163-E8C2-4931-AC64-A04505BA07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Me llamo __________   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Clase 6 nh</a:t>
            </a:r>
            <a:br>
              <a:rPr sz="3200"/>
            </a:b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La fecha es el 8 de junio del 2012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59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juga los siguientes verbos en forma de “BO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enzar (to beg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(to underst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ir (to inj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opezar (to tumble 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travesar (to cro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njugate the following verb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1600200"/>
          <a:ext cx="8686440" cy="4546440"/>
        </p:xfrm>
        <a:graphic>
          <a:graphicData uri="http://schemas.openxmlformats.org/drawingml/2006/table">
            <a:tbl>
              <a:tblPr/>
              <a:tblGrid>
                <a:gridCol w="3213720"/>
                <a:gridCol w="5472720"/>
              </a:tblGrid>
              <a:tr h="68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                       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Comer         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rrer       </a:t>
                      </a: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Vi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 flipV="1">
            <a:off x="5410080" y="1599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50532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286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2286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238880" y="1599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60480" y="50436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Com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03400" y="50436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Corr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8560" y="51195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O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 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O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set of stem-changing verbs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stem changes to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 The endings remain the same as in regular –ER/-IR verb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59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 los verbos en forma de BOTA (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3 ORIGINAL SENTENCES with each verb. Make sure you use different pronouns or subjects. Get creative!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9 tot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dcterms:modified xsi:type="dcterms:W3CDTF">2012-06-11T18:59:18Z</dcterms:modified>
  <cp:revision>15</cp:revision>
  <dc:subject/>
  <dc:title>Me llamo __________   Clase 7IM La fecha es el 2 de diciembre del 2010</dc:title>
</cp:coreProperties>
</file>